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5FD5-43EE-4115-BEEC-6947675A2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1517-91DE-4911-ADDB-2C0E4FB60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624D-599B-4440-9399-01620613A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C639-C20D-4116-9E17-E54217EE0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42A3-E9F8-412A-96F5-9BD05C0FE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789F-162D-428B-8279-BBBBF8C17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B5E9-1EF3-4C4C-934F-F0727A0B1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AE5A-718B-4082-91B1-A930BD4ED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2D00-6ABF-4097-8415-C5BB6C182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1BD8-A7A1-493B-9727-510F91925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AAD8-0312-42F6-93EE-CC11EB3F5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7088-D213-4F8C-9E6C-55BCEE51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7D5C1-D89E-4789-AA82-160020562D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3T17:27:12Z</dcterms:created>
  <dc:creator>200202692</dc:creator>
  <dc:description/>
  <dc:language>en-US</dc:language>
  <cp:lastModifiedBy>200202692</cp:lastModifiedBy>
  <dcterms:modified xsi:type="dcterms:W3CDTF">2010-09-23T17:28:29Z</dcterms:modified>
  <cp:revision>1</cp:revision>
  <dc:subject/>
  <dc:title>Slide 1</dc:title>
</cp:coreProperties>
</file>